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3801-4348-4B24-80C1-DABF5F975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onstitutes 98-99% of the matter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FD25-EA29-41A3-A6E5-A09D3C85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EA4C-9994-45BB-A58B-8F7EE9C5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1D86-25EE-4B0E-AAC5-2F62986B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50FE-E15A-4D1D-80A8-E0704DF6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CB0B-99EC-4EF3-9A75-5FCEF1FC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9254-1EAD-4113-832D-5A67E6A0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AA25-3FE9-4F00-AC50-1FA9C804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C138-81E9-4804-8183-1EF21437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D054-1774-4E66-A0EF-4B96F084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89CF-FF9B-44D3-8C4D-8E15E3FE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2063-97F9-4FC4-BAB3-6DF9A703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E7D3-6809-4E32-AA75-5174FC24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4C83-C4D4-4B13-B8FD-55996C68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8A65-AA47-4928-A167-4DE43C6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C369-09F3-40A6-85C2-E60670E6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0E0E-1B90-49A5-AD8B-6890D34E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A274-8A53-4D2B-A87F-33A52C4B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6202-5AF2-4FF1-8C36-C012ED00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5667-8033-483C-82B1-9E790E15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5BB51-3B6E-428C-A9F4-7D060A35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FF49-6984-4C59-81F9-05AF117D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2040-2712-4EE8-B828-20EB1D79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E7BA-A9A7-436D-901F-DEFC4BBA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4F8C-A20E-47FD-ACB6-947DB2BF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29AA-ABE7-4C81-861F-5E711E38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86FA7-287E-46BB-BD0C-DEA6893D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F3FC-64FF-4289-A797-D245FC1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73B4-F6BD-4D9E-8564-5BAA4075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C64D-2AE4-4F62-9265-C629DBF6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24B4-A54A-4C21-8ED3-D307517E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E7B4-3712-49F5-9EE5-2C1A0C54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6EBF-C2E5-41CD-A255-0A9C8A5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E03E-67CA-4B6D-8192-631D5299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F69D-E068-43E3-9E71-FBD08E70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D24A-ABB8-4D3B-AD6A-5B789BF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394E-313A-4C54-814F-75A1911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BB83-CBAF-4746-831C-68EAF6D6A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C693-66A9-47B6-B8A2-993BE7545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6A4-CFBB-4CF6-BCC5-8632EDE93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Developing_Inquiry_Activities-1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States of Matte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OOBLECK: 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x 2 parts cornstarch and 1 part wa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ur the water into a Ziploc b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food color to water (option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cornstarch a little bit at a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e bag and knead the contents as need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Oobleck when you can squeeze as a solid and pour as a liqu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a few drops of water if the Oobleck is crum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Glurch: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ur 1 tablespoon of Elmer’s Glue into a snack-size Ziploc bag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1 tablespoon of a saturated Borax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food coloring (optiona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p the bag shut and begin kneading it to mix the cont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may take a few minu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re are three sta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matter.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276360" y="2514240"/>
            <a:ext cx="2971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re are three sta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matter.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76360" y="2514240"/>
            <a:ext cx="2971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ow many states of matter are ther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are the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tates of Matt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838080" y="48769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et’s look at a candl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5909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at forms can matter tak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191120" y="1676520"/>
            <a:ext cx="7682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343400" y="4343400"/>
            <a:ext cx="7682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>
            <a:hlinkClick r:id="rId1"/>
          </p:cNvPr>
          <p:cNvSpPr/>
          <p:nvPr/>
        </p:nvSpPr>
        <p:spPr>
          <a:xfrm>
            <a:off x="4114800" y="685800"/>
            <a:ext cx="685800" cy="53352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ow many states of matter are ther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s this corr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296200" cy="4426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6248520" y="1981080"/>
            <a:ext cx="21333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tter exists in four states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414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9:55:44Z</dcterms:created>
  <dc:creator>Cynthia Moore</dc:creator>
  <dc:description/>
  <dc:language>en-US</dc:language>
  <cp:lastModifiedBy>Cynthia Moore</cp:lastModifiedBy>
  <dcterms:modified xsi:type="dcterms:W3CDTF">2011-01-26T20:24:56Z</dcterms:modified>
  <cp:revision>8</cp:revision>
  <dc:subject/>
  <dc:title>Slide 1</dc:title>
</cp:coreProperties>
</file>